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94B8-7447-4EAC-860B-5012FD616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CD5A-2784-47D8-8B11-73C12AA65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1C4F-DD29-4C56-AB7B-A682F14FE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4A00-E9C6-4696-AC17-44031921B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644E-F093-4592-993B-3B5401BD9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EA5E-1D66-4461-ACBE-41E7A773E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E225-F9F9-4071-8B42-A21B72AF0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017A-90CB-4C84-B94B-7450E630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A8C-7E7A-4B70-BE81-BF350CC2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1B0-275E-47B7-BE60-0F1AAD92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346-2187-41EE-B54D-E0F6B4E0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068-86E0-44BA-9A00-5D782A69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7E3-887B-4BF9-8236-05AB5EDD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331-DE38-4528-B9FB-F1DE38D6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D49-AF32-476B-BE10-39C64C40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DA1-1178-40B9-9C1E-850C5642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92E-9924-46CD-AC17-8C9C3D24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360-2F38-4AB0-ADED-9F15455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25A-68B6-4607-9E9A-1F857AF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CB6-FFBB-47CF-BBBD-D0202B87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9C76-95A8-4B04-8E41-8B0AD952C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orldoffancydress.com/images/sherlock%20pipe%20and%20magnifying%20glass.jpg"/>
          <p:cNvPicPr/>
          <p:nvPr/>
        </p:nvPicPr>
        <p:blipFill>
          <a:blip r:embed="rId1"/>
          <a:stretch/>
        </p:blipFill>
        <p:spPr>
          <a:xfrm>
            <a:off x="0" y="0"/>
            <a:ext cx="6515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4920" y="914040"/>
            <a:ext cx="3353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81280" y="2286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o are the though lea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are the u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are some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can I us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Case Stud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A person: Principal, Director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A place: School, District, Reg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A thing: Product, Program, Ev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newamerica.net/blog/files/dr_seuss_thing1_thing2_plaque.jpg"/>
          <p:cNvPicPr/>
          <p:nvPr/>
        </p:nvPicPr>
        <p:blipFill>
          <a:blip r:embed="rId1"/>
          <a:stretch/>
        </p:blipFill>
        <p:spPr>
          <a:xfrm>
            <a:off x="6019920" y="4157640"/>
            <a:ext cx="3124080" cy="27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csmonitor.com/var/ezflow_site/storage/images/media/images/2010/0830-weekly/0830-cduncan-04-arne-duncan-office/8501480-1-eng-US/0830-CDUNCAN-04-ARNE-DUNCAN-OFFICE_full_600.jpg"/>
          <p:cNvPicPr/>
          <p:nvPr/>
        </p:nvPicPr>
        <p:blipFill>
          <a:blip r:embed="rId2"/>
          <a:stretch/>
        </p:blipFill>
        <p:spPr>
          <a:xfrm>
            <a:off x="0" y="42670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estatesdubai.com/uploaded_images/burj-place-dubai-715605.jpg"/>
          <p:cNvPicPr/>
          <p:nvPr/>
        </p:nvPicPr>
        <p:blipFill>
          <a:blip r:embed="rId3"/>
          <a:stretch/>
        </p:blipFill>
        <p:spPr>
          <a:xfrm>
            <a:off x="2743200" y="426708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business-strategy-innovation.com/uploaded_images/Thought-Leadership-787948.jpg"/>
          <p:cNvPicPr/>
          <p:nvPr/>
        </p:nvPicPr>
        <p:blipFill>
          <a:blip r:embed="rId1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 Thought Lea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ert Yin - “as an empirical inquiry that investigates a contemporary phenomenon within its real-life context; when the boundaries between phenomenon and context are not clearly evident; and in which multiple sources of evidence are used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user and Strauss – Grounded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s of 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ways theory is used in case study desig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testing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building case studies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nded Theory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case studies—case cen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itative/Qualit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deeper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 re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lack rig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sample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ing conclu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ardyssblog.com/wp-content/uploads/2010/07/pros_cons.gif"/>
          <p:cNvPicPr/>
          <p:nvPr/>
        </p:nvPicPr>
        <p:blipFill>
          <a:blip r:embed="rId1"/>
          <a:stretch/>
        </p:blipFill>
        <p:spPr>
          <a:xfrm>
            <a:off x="1600200" y="3505320"/>
            <a:ext cx="5943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www.greenfieldsuk.com/media/magnifying_glass_01.png"/>
          <p:cNvPicPr/>
          <p:nvPr/>
        </p:nvPicPr>
        <p:blipFill>
          <a:blip r:embed="rId1"/>
          <a:stretch/>
        </p:blipFill>
        <p:spPr>
          <a:xfrm>
            <a:off x="0" y="0"/>
            <a:ext cx="7010280" cy="6969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a good principal great: a case study of 10 WI princip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a good university great: a case study of 6 univers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common characteristics of young social activists: a case study of 15 activi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sustain generation Y teachers?;  A case study of 12 successful generation Y teac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can I use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and talk to someone at your table and brainstorm potential case study application to your research question, including People/places/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fuseboxtheatre.com/_wpFBX/wp-content/uploads/2008/04/talking_heads_small.jpg"/>
          <p:cNvPicPr/>
          <p:nvPr/>
        </p:nvPicPr>
        <p:blipFill>
          <a:blip r:embed="rId1"/>
          <a:stretch/>
        </p:blipFill>
        <p:spPr>
          <a:xfrm>
            <a:off x="2362320" y="3809880"/>
            <a:ext cx="47624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6:37:10Z</dcterms:created>
  <dc:creator> Mark Hansen</dc:creator>
  <dc:description/>
  <dc:language>en-US</dc:language>
  <cp:lastModifiedBy> Mark Hansen</cp:lastModifiedBy>
  <dcterms:modified xsi:type="dcterms:W3CDTF">2010-10-10T18:53:42Z</dcterms:modified>
  <cp:revision>9</cp:revision>
  <dc:subject/>
  <dc:title>Case Study</dc:title>
</cp:coreProperties>
</file>